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454F0-1E3D-4FA8-8E3C-B6018ACB3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149DA-E22C-4897-B397-57E51FB19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9C1D3-5AA9-4988-984D-B3FE258CF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B8B20-5299-48CD-9DE5-B368CF769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283A02-41C4-4CF8-B807-5FDAE38138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F0B3E-A42D-4F61-8AA7-2F01B2A6F4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F68ED-3392-49D0-B0EF-C1BB08309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95360-1C29-421B-81DA-59DDBDCF0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24CEA-F211-47C4-B019-5F11E07D7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9E6E7-1133-47A8-8555-A79B81EEE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941DD-58FE-4CB7-827F-7E3D9B2CA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A0F9A-C260-4617-8ED3-DCC110426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15A5D-BA89-4EB7-9CF6-8456822E9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12474-7759-4138-B6A3-3F6A651D9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8F179C-C114-4BA5-B3CD-E8B12E9696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EC7EF5-7D35-4FE5-93CA-9BDCB65E11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8461E4-510D-4207-8CF6-364FD1A465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64068-D5DF-4DB6-AACF-3B4A1D89C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990DB-73B4-4E73-99B9-F634433EB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2625B-876A-4683-851E-981258FB5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D02F8-4E86-4B96-8E25-DF15A5F6D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C32EA-D833-4FD9-AFCD-AB6A6DAF1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75327-512A-4731-A953-7F5F49DF2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67287-8007-4B8F-BAF3-9BA75E1242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722EE-C531-40DA-AC2A-EAD154CA8EC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ADA0A-48F7-472E-828C-A08E14A8FFA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images.buycostumes.com/mgen/merchandiser/61653.jpg&amp;imgrefurl=http://www.buycostumes.com/browse/Classic/New/_/N-1z141w7Z1z140zn/results1.aspx&amp;usg=__bneLQsx0Xe_2g0UjDpcHCI7h6iU=&amp;h=1306&amp;w=970&amp;sz=245&amp;hl=en&amp;start=23&amp;tbnid=-i0I9HIqxuVHFM:&amp;tbnh=150&amp;tbnw=111&amp;prev=/images%3Fq%3Ddog%2Bin%2Bsunflower%2Boutfit%26ndsp%3D20%26hl%3Den%26sa%3DN%26start%3D20"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i.pbase.com/g6/17/553517/2/84535477.CVQzUcdH.jpg&amp;imgrefurl=http://www.pbase.com/cindyflood/image/84535477&amp;usg=__6oDuILUzrrEv6yRtYpGvujniios=&amp;h=533&amp;w=800&amp;sz=187&amp;hl=en&amp;start=17&amp;tbnid=daZJAo4SM5qAPM:&amp;tbnh=95&amp;tbnw=143&amp;prev=/images%3Fq%3Dcabin%2Bscenes%26hl%3Den"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usageorge.com/Wallpapers/Cities-Places/wallpaper/Grand%2520Canyon.jpg&amp;imgrefurl=http://www.usageorge.com/Wallpapers/Cities-Places/Grand-Canyon.html&amp;usg=__ZRTNDv0J7Rx5vjhg9qz6P2Idn8Q=&amp;h=768&amp;w=1024&amp;sz=224&amp;hl=en&amp;start=39&amp;tbnid=jfA4LC-MnxoESM:&amp;tbnh=113&amp;tbnw=150&amp;prev=/images%3Fq%3Dgrand%2Bcanyon%26ndsp%3D20%26hl%3Den%26sa%3DN%26start%3D20"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tbn0.google.com/hosted/images/c%3Fq%3D37ff1ea25c66caba_large&amp;imgrefurl=http://images.google.com/hosted/life/l%3Fimgurl%3D37ff1ea25c66caba&amp;usg=__iu3Wo0jCX18sQ5lQZVNosV0by3I=&amp;h=1280&amp;w=1278&amp;sz=74&amp;hl=en&amp;start=12&amp;tbnid=jQKEZH5J4leUaM:&amp;tbnh=150&amp;tbnw=150&amp;prev=/images%3Fq%3D1960s%2BApollo%2Bspace%2Bsource:life%26hl%3Den"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tbn0.google.com/hosted/images/c%3Fq%3Db05d889088d40c32_large&amp;imgrefurl=http://images.google.com/hosted/life/l%3Fimgurl%3Db05d889088d40c32&amp;usg=__m5ZV05lKeeAAYg4p5bn6V2qvnAo=&amp;h=994&amp;w=1280&amp;sz=188&amp;hl=en&amp;start=4&amp;tbnid=fpv3JPXFneTgjM:&amp;tbnh=116&amp;tbnw=150&amp;prev=/images%3Fq%3DVietnam%2BWar%2Bsource:life%26hl%3Den"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English</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citing Day 2!!</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766880" y="1557360"/>
            <a:ext cx="5610240" cy="374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6" name="" descr="">
            <a:hlinkClick r:id="rId1"/>
          </p:cNvPr>
          <p:cNvPicPr/>
          <p:nvPr/>
        </p:nvPicPr>
        <p:blipFill>
          <a:blip r:embed="rId2"/>
          <a:stretch/>
        </p:blipFill>
        <p:spPr>
          <a:xfrm>
            <a:off x="2362320" y="1447920"/>
            <a:ext cx="4343400" cy="419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7" name="" descr="">
            <a:hlinkClick r:id="rId1"/>
          </p:cNvPr>
          <p:cNvPicPr/>
          <p:nvPr/>
        </p:nvPicPr>
        <p:blipFill>
          <a:blip r:embed="rId2"/>
          <a:stretch/>
        </p:blipFill>
        <p:spPr>
          <a:xfrm>
            <a:off x="914400" y="1523880"/>
            <a:ext cx="7543800" cy="472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8" name="" descr="">
            <a:hlinkClick r:id="rId1"/>
          </p:cNvPr>
          <p:cNvPicPr/>
          <p:nvPr/>
        </p:nvPicPr>
        <p:blipFill>
          <a:blip r:embed="rId2"/>
          <a:stretch/>
        </p:blipFill>
        <p:spPr>
          <a:xfrm>
            <a:off x="1066680" y="762120"/>
            <a:ext cx="6858000" cy="541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2076480" y="1557360"/>
            <a:ext cx="4991040" cy="374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1828800" y="990720"/>
            <a:ext cx="5562720" cy="502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1066680" y="914400"/>
            <a:ext cx="6553440" cy="5181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genda</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 over syllabu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 over AR requirement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DOL</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images assignment</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ecard assign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OL</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age Assignment</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your notebook (the one you will use ONLY for English) write the first thing that pops into your head when you look at the images. We will go through the images twic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sure it’s appropriat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be using this as part of your upcoming assignme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0" name="" descr="ocean alive"/>
          <p:cNvPicPr/>
          <p:nvPr/>
        </p:nvPicPr>
        <p:blipFill>
          <a:blip r:embed="rId1"/>
          <a:stretch/>
        </p:blipFill>
        <p:spPr>
          <a:xfrm>
            <a:off x="380880" y="1066680"/>
            <a:ext cx="8458200" cy="510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1" name="" descr="">
            <a:hlinkClick r:id="rId1"/>
          </p:cNvPr>
          <p:cNvPicPr/>
          <p:nvPr/>
        </p:nvPicPr>
        <p:blipFill>
          <a:blip r:embed="rId2"/>
          <a:stretch/>
        </p:blipFill>
        <p:spPr>
          <a:xfrm>
            <a:off x="609480" y="685800"/>
            <a:ext cx="7772400" cy="548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2" name="" descr="">
            <a:hlinkClick r:id="rId1"/>
          </p:cNvPr>
          <p:cNvPicPr/>
          <p:nvPr/>
        </p:nvPicPr>
        <p:blipFill>
          <a:blip r:embed="rId2"/>
          <a:stretch/>
        </p:blipFill>
        <p:spPr>
          <a:xfrm>
            <a:off x="914400" y="380880"/>
            <a:ext cx="7010280" cy="558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1219320" y="1066680"/>
            <a:ext cx="6858000" cy="5376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2438280" y="838080"/>
            <a:ext cx="4191120" cy="510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19:06:42Z</dcterms:created>
  <dc:creator>rebecca</dc:creator>
  <dc:description/>
  <dc:language>en-US</dc:language>
  <cp:lastModifiedBy>rebecca</cp:lastModifiedBy>
  <dcterms:modified xsi:type="dcterms:W3CDTF">2009-08-19T20:02:34Z</dcterms:modified>
  <cp:revision>2</cp:revision>
  <dc:subject/>
  <dc:title>English</dc:title>
</cp:coreProperties>
</file>